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8803600" cy="36002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9A8-B33F-479F-9964-74917B00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0000" y="8400600"/>
            <a:ext cx="259236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0000" y="20811960"/>
            <a:ext cx="259236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BD1-2132-4480-9F92-D83464B3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0000" y="840060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23280" y="840060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0000" y="2081196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723280" y="2081196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030-B50B-4DCA-AF90-0753D23E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0000" y="8400600"/>
            <a:ext cx="834732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04920" y="8400600"/>
            <a:ext cx="834732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970200" y="8400600"/>
            <a:ext cx="834732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0000" y="20811960"/>
            <a:ext cx="834732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04920" y="20811960"/>
            <a:ext cx="834732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970200" y="20811960"/>
            <a:ext cx="834732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677-5777-41E5-9690-96CB98BF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0000" y="8400600"/>
            <a:ext cx="2592360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92D-6D70-48F8-AA75-255A7344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0000" y="8400600"/>
            <a:ext cx="25923600" cy="2376180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948-593E-445E-B32E-12D6D897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0000" y="8400600"/>
            <a:ext cx="12650400" cy="2376180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723280" y="8400600"/>
            <a:ext cx="12650400" cy="2376180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912-A0A7-4615-A174-A3B4B229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E07-C558-44EB-89C4-E980F2D6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0000" y="1441080"/>
            <a:ext cx="2592360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3E2-19D1-40B8-A7EC-0FCB57B9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840060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3280" y="8400600"/>
            <a:ext cx="12650400" cy="2376180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0000" y="2081196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233-B1FF-41FA-85A8-1B953DB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8400600"/>
            <a:ext cx="12650400" cy="2376180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3280" y="840060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23280" y="2081196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29F-FD17-490E-8A96-DCAB45E1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840060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723280" y="8400600"/>
            <a:ext cx="126504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0000" y="20811960"/>
            <a:ext cx="25923600" cy="113342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3680"/>
                <a:tab algn="l" pos="7407360"/>
              </a:tabLst>
            </a:pP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7E1-EF91-4582-8AE4-ABF1B4CE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0000" y="1441080"/>
            <a:ext cx="25923600" cy="600084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0000" y="8400600"/>
            <a:ext cx="25923600" cy="2376180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rmAutofit/>
          </a:bodyPr>
          <a:p>
            <a:pPr marL="1389240" indent="-1389240">
              <a:spcBef>
                <a:spcPts val="3251"/>
              </a:spcBef>
              <a:buClr>
                <a:srgbClr val="000000"/>
              </a:buClr>
              <a:buFont typeface="Arial"/>
              <a:buChar char="•"/>
              <a:tabLst>
                <a:tab algn="l" pos="3703680"/>
                <a:tab algn="l" pos="740736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  <a:p>
            <a:pPr lvl="1" marL="3008160" indent="-1157040">
              <a:spcBef>
                <a:spcPts val="3251"/>
              </a:spcBef>
              <a:buClr>
                <a:srgbClr val="000000"/>
              </a:buClr>
              <a:buFont typeface="Arial"/>
              <a:buChar char="–"/>
              <a:tabLst>
                <a:tab algn="l" pos="3703680"/>
                <a:tab algn="l" pos="740736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  <a:p>
            <a:pPr lvl="2" marL="4629240" indent="-925560">
              <a:spcBef>
                <a:spcPts val="3251"/>
              </a:spcBef>
              <a:buClr>
                <a:srgbClr val="000000"/>
              </a:buClr>
              <a:buFont typeface="Arial"/>
              <a:buChar char="•"/>
              <a:tabLst>
                <a:tab algn="l" pos="3703680"/>
                <a:tab algn="l" pos="740736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  <a:p>
            <a:pPr lvl="3" marL="6480000" indent="-925200">
              <a:spcBef>
                <a:spcPts val="3251"/>
              </a:spcBef>
              <a:buClr>
                <a:srgbClr val="000000"/>
              </a:buClr>
              <a:buFont typeface="Arial"/>
              <a:buChar char="–"/>
              <a:tabLst>
                <a:tab algn="l" pos="3703680"/>
                <a:tab algn="l" pos="740736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  <a:p>
            <a:pPr lvl="4" marL="8332920" indent="-925560">
              <a:spcBef>
                <a:spcPts val="3251"/>
              </a:spcBef>
              <a:buClr>
                <a:srgbClr val="000000"/>
              </a:buClr>
              <a:buFont typeface="Arial"/>
              <a:buChar char="»"/>
              <a:tabLst>
                <a:tab algn="l" pos="3703680"/>
                <a:tab algn="l" pos="740736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  <a:p>
            <a:pPr lvl="5" marL="8332920" indent="-925560">
              <a:spcBef>
                <a:spcPts val="3251"/>
              </a:spcBef>
              <a:buClr>
                <a:srgbClr val="000000"/>
              </a:buClr>
              <a:buFont typeface="Arial"/>
              <a:buChar char="»"/>
              <a:tabLst>
                <a:tab algn="l" pos="3703680"/>
                <a:tab algn="l" pos="740736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  <a:p>
            <a:pPr lvl="6" marL="8332920" indent="-925560">
              <a:spcBef>
                <a:spcPts val="3251"/>
              </a:spcBef>
              <a:buClr>
                <a:srgbClr val="000000"/>
              </a:buClr>
              <a:buFont typeface="Arial"/>
              <a:buChar char="»"/>
              <a:tabLst>
                <a:tab algn="l" pos="3703680"/>
                <a:tab algn="l" pos="740736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0000" y="32788080"/>
            <a:ext cx="6721200" cy="25005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3680"/>
                <a:tab algn="l" pos="7407360"/>
              </a:tabLst>
              <a:defRPr b="0" lang="es-ES" sz="5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703680"/>
                <a:tab algn="l" pos="7407360"/>
              </a:tabLst>
            </a:pPr>
            <a:r>
              <a:rPr b="0" lang="es-ES" sz="5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840960" y="32788080"/>
            <a:ext cx="9121680" cy="25005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3680"/>
                <a:tab algn="l" pos="7407360"/>
              </a:tabLst>
              <a:defRPr b="0" lang="es-ES" sz="5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703680"/>
                <a:tab algn="l" pos="7407360"/>
              </a:tabLst>
            </a:pPr>
            <a:r>
              <a:rPr b="0" lang="es-ES" sz="5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642400" y="32788080"/>
            <a:ext cx="6721200" cy="2500560"/>
          </a:xfrm>
          <a:prstGeom prst="rect">
            <a:avLst/>
          </a:prstGeom>
          <a:noFill/>
          <a:ln w="0">
            <a:noFill/>
          </a:ln>
        </p:spPr>
        <p:txBody>
          <a:bodyPr lIns="370440" rIns="37044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3680"/>
                <a:tab algn="l" pos="7407360"/>
              </a:tabLst>
              <a:defRPr b="0" lang="es-ES" sz="5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703680"/>
                <a:tab algn="l" pos="7407360"/>
              </a:tabLst>
            </a:pPr>
            <a:fld id="{675C4B3B-9106-48E0-9A83-E23A747261B9}" type="slidenum">
              <a:rPr b="0" lang="es-ES" sz="5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32000" y="1728720"/>
            <a:ext cx="23907600" cy="28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LICACIONES TARDIAS EN EL TRASPLANTE ALOGENICO DE PROGENITORES HEMATOPOYETIC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36720" y="4537080"/>
            <a:ext cx="23187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IA HIDALGO SANCHEZ, JOSE LOZANO HIDALGO, M ANGELES FERIA TAVIRA</a:t>
            </a: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DAD DE GESTION CLINICA DE HEMATOLOGIA HOSPITAL UNIVERSITARIO “REINA SOFIA” CORD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03680"/>
                <a:tab algn="l" pos="7407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3640" y="7056360"/>
            <a:ext cx="13754160" cy="676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7080" y="7129440"/>
            <a:ext cx="1274436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703680"/>
                <a:tab algn="l" pos="7407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703680"/>
                <a:tab algn="l" pos="7407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TRODUCCIÓN: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703680"/>
                <a:tab algn="l" pos="7407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complicaciones tardías del TPH-alogenico pueden afectar a un órgano o sistema, único o múltiple que responde a diversos factores etiopatogénicos, tales como enfermedad de base, tratamientos previos, régimen de acondicionamiento y ttos postrasplan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703680"/>
                <a:tab algn="l" pos="7407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aumento de la supervivencia de estos pacientes ha dado lugar a una mayor incidencia de EICH crónico y otras complicaciones tardías no relacionada con és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049440" y="6913440"/>
            <a:ext cx="12962160" cy="734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914520" y="7561440"/>
            <a:ext cx="118080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3703680"/>
                <a:tab algn="l" pos="7407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03680"/>
                <a:tab algn="l" pos="7407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mos estudiado pacientes sometidos a Alo-TPH desde enero 1981 a marzo 2010 (n=685). De estos 685, 341(49,7%) sobrevivieron más de 2 añ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03680"/>
                <a:tab algn="l" pos="7407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 los pacientes que sobrevivieron más de dos años, 143(41,9%) desarrollaron EICH crónica, mientras que 195 no la desarrollar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03680"/>
                <a:tab algn="l" pos="7407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estos 143 pacientes, en 51 casos fue leve (35,6%), en 49 moderado (32,8%) y en 43(30%) gra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63640" y="14546160"/>
            <a:ext cx="26930160" cy="20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03680"/>
                <a:tab algn="l" pos="740736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7080" y="14617800"/>
            <a:ext cx="262825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3703680"/>
                <a:tab algn="l" pos="7407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SULT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3703680"/>
                <a:tab algn="l" pos="7407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diferentes complicaciones en relación con EICHc que desarrollaron estos pacientes se detallan en la tabla 1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24000" y="17426160"/>
          <a:ext cx="12528360" cy="6913440"/>
        </p:xfrm>
        <a:graphic>
          <a:graphicData uri="http://schemas.openxmlformats.org/drawingml/2006/table">
            <a:tbl>
              <a:tblPr/>
              <a:tblGrid>
                <a:gridCol w="5810400"/>
                <a:gridCol w="671796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1" lang="es-E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 EICH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 1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táne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101 (70%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8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cal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85 (59.4%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ular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51 (35.5%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8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pátic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32  (22.37%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monar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29 (20.2%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8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ofágic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3703680"/>
                          <a:tab algn="l" pos="740736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4 (2.79%)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0656720" y="24555600"/>
            <a:ext cx="57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3703680"/>
                <a:tab algn="l" pos="7407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bla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94160" y="27363600"/>
            <a:ext cx="10801440" cy="655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210160" y="27866880"/>
            <a:ext cx="102963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3703680"/>
                <a:tab algn="l" pos="7407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MPLICACIONES: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3703680"/>
                <a:tab algn="l" pos="7407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omplicaciones tardías en relación al EICHc es un hecho resgistrado en la literatura. Algunas de ellas pueden llegar a ser verdaderamente invalidantes. Parece que las complicaciones cutáneas son las más incident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202160" y="17857800"/>
            <a:ext cx="9216720" cy="6481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7640" y="27435240"/>
            <a:ext cx="7993080" cy="52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001080" y="27435240"/>
            <a:ext cx="7418520" cy="525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065800" y="2462688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3703680"/>
                <a:tab algn="l" pos="7407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ICHc Cut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36720" y="3312324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3703680"/>
                <a:tab algn="l" pos="7407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ICHc Cut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56720" y="3319632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3703680"/>
                <a:tab algn="l" pos="7407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ICHc Bu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15:10:53Z</dcterms:created>
  <dc:creator>temporal</dc:creator>
  <dc:description/>
  <dc:language>en-US</dc:language>
  <cp:lastModifiedBy>garciajesus44s</cp:lastModifiedBy>
  <dcterms:modified xsi:type="dcterms:W3CDTF">2015-10-13T08:36:42Z</dcterms:modified>
  <cp:revision>5</cp:revision>
  <dc:subject/>
  <dc:title>Diapositiva 1</dc:title>
</cp:coreProperties>
</file>